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982-6D43-4A27-8938-F994AE7C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FBF-A0FF-4E0F-9D41-5F602141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51836-3B74-45CF-B007-49E1BE3A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71AF2-AE57-4990-AA14-86ED2BF1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9B921-01CE-4802-86A0-5A1B4CBE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55AB6-C322-4315-B02D-9E950C60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B84B2-1D52-4652-AAEF-5B50AFFE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039DF-644B-4236-93A1-823B1531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B2BB5-940E-4217-B176-D03BDB88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2AAA1-0BB3-4A23-AE08-8969E41A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ABF34-3524-4B0B-8B73-84EF089A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A4407-FBA2-4C12-ADC3-5EDEA86A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813-225B-48BE-86DC-823C8CF2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5534B-9A70-44CC-BE4D-07A99FCA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DB039-46A1-4779-A501-06EE4B55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D8138-6082-4B8E-BCE7-EB7068B9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1CF44-65DD-4C74-A38A-08EB9429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33910-A2BF-40E4-9EAD-7AF8606E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9E405-AAC8-461A-8B47-4CEB7DFD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F3715-2E79-4917-ACB6-447872B4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68028-3EE8-4673-B79E-C9F12013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48C01-A07D-4482-942F-12E1350D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F380F-1F3D-4C44-AA20-AFE39930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50A-62BC-4A13-8A84-924518A2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881DA-FD04-46C5-983B-C33B9DEE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1EEA7-C095-4A42-9F20-754ADAEC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0CCD8-7576-47E4-BA38-04596ADA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685DB-895C-44BE-A790-3E14CE74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FFF30-EE66-4D58-A6E1-CE1DAFE5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833DC-CB4B-4AE3-9E0C-0D67294D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F0F2E-6C9A-414D-B41C-5BA8DB58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89921-CE4E-4588-A290-196E14EA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F6157-6901-47AD-8703-25789E12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E9708-CD08-461B-9390-CC87F41B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4F47-D28B-4590-88CD-AC062A8D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CB74C-DFDF-4456-90A5-2D9785ED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72CCE-A6D8-401B-8413-65BBEA0D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D6123-E2DF-4CFF-BE87-73C1BBB6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57060-02C5-4B17-89F3-A8C216F6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4BFEC-32A0-46DA-A1D2-29287763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805E5-B002-4369-943A-BE6E544D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899E5-DAAD-4AD0-9479-3EE9BF6E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79A1F-0CC1-4838-A719-B9FA1B21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EDFB4-090B-427A-BE70-45D9BAF9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4ABC2-3D48-4E10-A111-4DEA01E5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EC88-ABF1-4EC5-A248-E1BAB120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15C93-DAFA-47A7-B517-1EB2176C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CB92F-EF38-439A-8F1E-D665FD7D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5993F-F5D9-4A99-9C9B-25103D38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42CE5-4D03-4A0E-AFF6-98FE8C82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B4806-9F3F-4E07-A767-3903FB9E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DB8DF9-B44F-433C-8FDC-4391B408218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DB7E74-276A-4EEB-A6A5-6CDB30FDA5C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B1C00C-9F8F-4C54-AD5E-EB695E1AF40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4552AD-DED2-45F2-BCFE-941B965FF07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EF653E-D263-4F57-86BB-B7D8CD5679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ADE8-6B6B-4873-9853-48318466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E857CD-A1F1-4012-8239-A14599A4D12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33DD7A-ED18-45CB-AE66-9E46E39681F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F0A3DA-7D07-4374-9CAF-D040EB321B1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ABF52B-10AC-4811-BF41-4D96C2BD537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50D107-30D2-4C87-82E6-005A48D2BFC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AE9C9D-1138-4AC3-B4CC-2DBFA4E3C31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2A1F35-7B3E-44DC-BA69-2843043A0B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E57C-9C91-49CE-BBD5-0A477695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C375-55C2-4ADD-8466-255E6BAB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FA5A-50D2-4AC8-9DB8-CF8251E3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27CB-9631-4BC1-BB65-97FDC5E4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B8E-1204-4E36-9248-8FB89117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DCFA-D2B1-47E7-B726-9174F231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1174-7438-4943-BEBB-79CA1C87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401F-3796-4280-BEDE-C0B5F04C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AC09-BD7D-4B87-B5AC-3ABC21EA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B440-ED15-41DE-A39D-9C93797E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D22B-885F-489F-85A3-9520E8C4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EB1D-3718-4344-90BE-7CE27CBA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B3EF9-A4A2-48AA-BE15-C66DBBA3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BC0A1-78A0-44D1-BBD0-34FD6673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C875-45FC-4A66-A70C-4EE4D3A4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7FB-D49B-4D84-A82A-ADDC18A5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8846-EBE0-4612-BD65-B64F7C00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4F030-FBDA-436B-A0D3-BAACD0F6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87CCF-0ED6-4C87-8FC7-A9FFF7E6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B83C3-4905-46D2-BCB7-A18A8B76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8B15-C867-4960-9887-DE9E6D56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2A66-E156-451D-8FD1-79191CB4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0C67-2961-484C-A100-A9320D4C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D04D3-E4BF-43B9-9A9D-DCAFE688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3AE33-8E33-4DE0-8570-B1CA39F3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85760-998A-4065-90C6-6780DD41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2A0-B277-47C5-8EFE-21CA928D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E08B-A027-4DA4-98C0-32A8509B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5BBAD-5414-4747-B4A6-58F33447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BDFEB-36DD-49B3-9FD9-88E911CE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7BBE3-2423-4921-B8BC-378E7E36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F3F25-C8D8-40A3-9CFB-D8E8CE58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0AFC6-C97B-42D1-B620-872FCC68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5CFEC-6AE5-4F68-99DA-5D18609F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5C394-A785-4934-A60B-ECBEA1E7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2A781-E3BD-4607-8D5B-97D32C1C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CA2C7-83BA-4C65-8161-0D4D4D6D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39C-14FA-4AB6-A87C-02956549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29611-F2A7-4D17-97E1-6CAAFE16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3C86A-B5BB-4105-9B3A-A9F6C50B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D3798-0823-40F0-96F9-3D7B53B3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ED4D8-86CF-49F5-BD90-F9E9E9B8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84D49-FDFE-42D3-902A-17E23A90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2C5BC-D063-4A64-8058-022B836A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0E3F7-C021-440A-AED7-CA863AD3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FB9F5-DE71-4876-AE7A-EBF4D0D7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8888B-DDBB-488E-B6AC-866F98EF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0D1A3-EE4C-45E5-B21B-B5D7DA09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067-A401-4E3E-A065-E71E4A04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31830-C7E8-400E-BB11-E06E090C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DFBBB-5EB6-426C-AFF2-CBFB2149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1D78A-DF7E-40A5-BE5C-10F89E43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A190E-BBEA-45C5-934D-DF8916F6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45A37-FCEE-45C9-8C4D-FF98F091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1DB5-5F08-4613-BF55-D47962DD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6F075-47E0-4B0A-B60F-60CCD7A9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59FA3-0B84-4781-95A7-CF91024D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8EBEA-54A8-4066-84CE-414B2FAE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85B0A-678C-4AD5-89B7-1CB7883C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1BC-3C3F-4C06-A34D-D75B7BB6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D6E76-EC4B-4DBC-AB89-BF9720EE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D5C69-457D-41DC-AB9F-4A8272DF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D4A4C-5705-4151-9214-2AFB2FFD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42E16-2EF5-4117-8441-B460E630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01ABA-DCC9-4E5F-81B3-A5C249E3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E1980-5DEF-4840-8D93-31B08DB8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7AE93-8693-4E44-87E5-160CBBB7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5C37E-01C5-45D4-961E-E613A572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40935-C1E3-4AAA-800D-3CA18AC5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08A2A-7C26-4826-BC20-3673EE69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FE6-E7FC-4D8F-9B32-37584E8A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20308-FC89-44B4-8F08-4DD46B6D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60558-2BAE-4080-98D3-FF6AD612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A338E-7E95-4094-9E43-210B8AD6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BE988-AC29-45E2-B377-A06ED2F7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8360F-4703-42D6-B7E5-A9C3021A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23163-D436-4642-9515-89DF846D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6B50A-838C-45AD-9CCE-12749876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F62C6-2A94-4A1D-AD7F-60616413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CCDB4-4C43-4DE4-B0A5-50FBB3E6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E0371-9F3E-4D4D-BC92-FF983DF1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DAC-9B7B-4F5B-81B3-314DB8C7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35EC4-5EEA-4D18-B68D-8B06938D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16494-2374-45DB-8FFA-B6C7717A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93236-785F-4865-AB7C-C666889A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CBD6B-17BD-482C-8E21-ED5D33E5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A1262-1340-4F26-8047-940F474E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CCBE9-8A3B-4097-AC44-FAD17196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7BA3D-BE3E-4B99-8767-5CFD0A98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FE67F-6627-4E38-B3C0-A281D74A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78F15-8172-4768-BE27-74AD69F7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7C907-B65D-44F6-8675-A5A2CA48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3B25-D352-4A16-9C39-ECCA22A6BA2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52320" y="706320"/>
            <a:ext cx="4797720" cy="3657600"/>
            <a:chOff x="652320" y="706320"/>
            <a:chExt cx="4797720" cy="365760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706320"/>
              <a:ext cx="479772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800280"/>
              <a:ext cx="457200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720" y="716040"/>
            <a:ext cx="685800" cy="1522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280" y="703080"/>
            <a:ext cx="649440" cy="1522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2B85-4B3D-433E-A879-4937FF78ADD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7BB8-F590-423E-9C98-8CE2AED83AE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AAC1-3BBD-4F65-A129-792BB53DAA8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56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7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AAC1-2D33-4435-8655-7B30ACE03FB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060560"/>
            <a:ext cx="218880" cy="164880"/>
            <a:chOff x="920880" y="1060560"/>
            <a:chExt cx="218880" cy="16488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060560"/>
              <a:ext cx="21888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082520"/>
              <a:ext cx="14904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008000"/>
            <a:ext cx="63360" cy="4932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2554-4C7D-4496-BE3A-785B0685845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C206-808C-4802-B4E3-20728B5EC3A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109960"/>
            <a:ext cx="219240" cy="163440"/>
            <a:chOff x="2170080" y="2109960"/>
            <a:chExt cx="219240" cy="16344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109960"/>
              <a:ext cx="219240" cy="1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133720"/>
              <a:ext cx="14760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058840"/>
            <a:ext cx="63360" cy="4932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B08F-E91A-4594-8D8C-FA0A7F94C91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147F-3BA3-41E2-A70A-6DC1CA13C79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B5C2-E401-4EAA-BD00-07624C08340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7371-6CD6-40AE-8F50-381662EC84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C66F-DEED-4405-B517-319B2FF8C6A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1495-B28E-4611-9AE8-36FC960F8A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doc.fipi.ru/navigator-podgotovki/navigator-ege/MR_rus_yaz_ege_2024.pdf" TargetMode="External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Прямоугольник 1" descr=""/>
          <p:cNvPicPr/>
          <p:nvPr/>
        </p:nvPicPr>
        <p:blipFill>
          <a:blip r:embed="rId1"/>
          <a:stretch/>
        </p:blipFill>
        <p:spPr>
          <a:xfrm>
            <a:off x="1206360" y="609480"/>
            <a:ext cx="7705800" cy="264024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2"/>
          <p:cNvSpPr/>
          <p:nvPr/>
        </p:nvSpPr>
        <p:spPr>
          <a:xfrm>
            <a:off x="1287360" y="3417840"/>
            <a:ext cx="624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Учимся с ребятами видеть части слова  (морф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Ориентируемся в членах предложения, частях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Google Shape;188;p29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Google Shape;189;p29"/>
          <p:cNvSpPr/>
          <p:nvPr/>
        </p:nvSpPr>
        <p:spPr>
          <a:xfrm>
            <a:off x="0" y="215568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Google Shape;190;p29"/>
          <p:cNvSpPr/>
          <p:nvPr/>
        </p:nvSpPr>
        <p:spPr>
          <a:xfrm>
            <a:off x="1403280" y="533520"/>
            <a:ext cx="726300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Осложняющие мо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наличие в одном варианте КИМ схожих примеров, например: </a:t>
            </a: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Все, кто интересуется историей старинных орденов и медалей, обращает на них внимание при рассмотрении портретов выдающихся деятелей прошлого. – Тот, кто умеет планировать свое время, успевает сделать гораздо больше других людей 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(в обоих предложениях представлена «схожая» связь между подлежащим и сказуемым, однако только в одном, первом, предложении данная связь нарушена, то есть содержит грамматическую ошибку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наличие внутри одного примера «конкурирующих» элементов, например: </a:t>
            </a:r>
            <a:r>
              <a:rPr b="1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По завершении научного исследования будет опубликована статья в журнале «Наука и жизнь».</a:t>
            </a: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и</a:t>
            </a: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ли </a:t>
            </a:r>
            <a:r>
              <a:rPr b="1" i="1" lang="ru-RU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Некоторые итоги исследования древнерусских сельских поселений подведены в сборнике «Археология севернорусской деревни X–XIII веков», недавно выпущенном в издательстве «Наук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Google Shape;196;p30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Google Shape;197;p30"/>
          <p:cNvSpPr/>
          <p:nvPr/>
        </p:nvSpPr>
        <p:spPr>
          <a:xfrm>
            <a:off x="0" y="24321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Google Shape;198;p30" descr=""/>
          <p:cNvPicPr/>
          <p:nvPr/>
        </p:nvPicPr>
        <p:blipFill>
          <a:blip r:embed="rId1"/>
          <a:stretch/>
        </p:blipFill>
        <p:spPr>
          <a:xfrm>
            <a:off x="1127160" y="139680"/>
            <a:ext cx="75405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Google Shape;212;p32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Google Shape;213;p32"/>
          <p:cNvSpPr/>
          <p:nvPr/>
        </p:nvSpPr>
        <p:spPr>
          <a:xfrm>
            <a:off x="0" y="23083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Google Shape;214;p32" descr=""/>
          <p:cNvPicPr/>
          <p:nvPr/>
        </p:nvPicPr>
        <p:blipFill>
          <a:blip r:embed="rId1"/>
          <a:stretch/>
        </p:blipFill>
        <p:spPr>
          <a:xfrm>
            <a:off x="1378080" y="433440"/>
            <a:ext cx="7497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Google Shape;228;p34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Google Shape;229;p34"/>
          <p:cNvSpPr/>
          <p:nvPr/>
        </p:nvSpPr>
        <p:spPr>
          <a:xfrm>
            <a:off x="0" y="215568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Google Shape;230;p34" descr=""/>
          <p:cNvPicPr/>
          <p:nvPr/>
        </p:nvPicPr>
        <p:blipFill>
          <a:blip r:embed="rId1"/>
          <a:stretch/>
        </p:blipFill>
        <p:spPr>
          <a:xfrm>
            <a:off x="1103400" y="328680"/>
            <a:ext cx="75834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Google Shape;244;p36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Google Shape;245;p36"/>
          <p:cNvSpPr/>
          <p:nvPr/>
        </p:nvSpPr>
        <p:spPr>
          <a:xfrm>
            <a:off x="0" y="22813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Google Shape;246;p36"/>
          <p:cNvSpPr/>
          <p:nvPr/>
        </p:nvSpPr>
        <p:spPr>
          <a:xfrm>
            <a:off x="1447920" y="271440"/>
            <a:ext cx="7518240" cy="43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Обращаем внимание н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9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в выборе гласной в формах прошедшего времени (учащиеся определяли спря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9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в глаголах-исключениях </a:t>
            </a:r>
            <a:r>
              <a:rPr b="0" i="1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(стелить, ненавидеть, гнать)</a:t>
            </a: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, а также причастиях и деепричастиях, образованных от 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9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неверно восстановленный инфинитив </a:t>
            </a:r>
            <a:r>
              <a:rPr b="0" i="1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(молоть – мелЕТ, брезжить – брезжУЩий, движИм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tserrat"/>
                <a:ea typeface="Montserrat"/>
              </a:rPr>
              <a:t>цЕлУЮ     мИл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tserrat"/>
                <a:ea typeface="Montserrat"/>
              </a:rPr>
              <a:t>Выспишься (2 сп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ontserrat"/>
              </a:rPr>
              <a:t>«Опасные» слова: раскле..шь, колебл..шься, (кузнечик) стрекоч..т, (снега́) припорош..т; рыщ..щие (волки), хлещ..щие (струи), руш..щееся (здание); неприемл..мый, немину..мый; зачист..вший (напильником деталь); рассе..нный, сдерж..нное (обещание), пересуш..нное (белье), насто..нное (снадобье); обид..вш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Google Shape;260;p38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Google Shape;261;p38"/>
          <p:cNvSpPr/>
          <p:nvPr/>
        </p:nvSpPr>
        <p:spPr>
          <a:xfrm>
            <a:off x="0" y="195264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Google Shape;262;p38" descr=""/>
          <p:cNvPicPr/>
          <p:nvPr/>
        </p:nvPicPr>
        <p:blipFill>
          <a:blip r:embed="rId1"/>
          <a:stretch/>
        </p:blipFill>
        <p:spPr>
          <a:xfrm>
            <a:off x="1414440" y="1328760"/>
            <a:ext cx="72360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Google Shape;268;p39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Google Shape;269;p39"/>
          <p:cNvSpPr/>
          <p:nvPr/>
        </p:nvSpPr>
        <p:spPr>
          <a:xfrm>
            <a:off x="0" y="232560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Google Shape;270;p39" descr=""/>
          <p:cNvPicPr/>
          <p:nvPr/>
        </p:nvPicPr>
        <p:blipFill>
          <a:blip r:embed="rId1"/>
          <a:stretch/>
        </p:blipFill>
        <p:spPr>
          <a:xfrm>
            <a:off x="1352520" y="274680"/>
            <a:ext cx="7394760" cy="3736800"/>
          </a:xfrm>
          <a:prstGeom prst="rect">
            <a:avLst/>
          </a:prstGeom>
          <a:ln w="0">
            <a:noFill/>
          </a:ln>
        </p:spPr>
      </p:pic>
      <p:sp>
        <p:nvSpPr>
          <p:cNvPr id="650" name="Прямоугольник 5"/>
          <p:cNvSpPr/>
          <p:nvPr/>
        </p:nvSpPr>
        <p:spPr>
          <a:xfrm>
            <a:off x="1295280" y="335592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https://doc.fipi.ru/navigator-podgotovki/navigator-ege/MR_rus_yaz_ege_202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Google Shape;284;p41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Google Shape;285;p41"/>
          <p:cNvSpPr/>
          <p:nvPr/>
        </p:nvSpPr>
        <p:spPr>
          <a:xfrm>
            <a:off x="0" y="229860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Google Shape;286;p41"/>
          <p:cNvSpPr/>
          <p:nvPr/>
        </p:nvSpPr>
        <p:spPr>
          <a:xfrm>
            <a:off x="1038240" y="0"/>
            <a:ext cx="76122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tserrat"/>
                <a:ea typeface="Montserrat"/>
              </a:rPr>
              <a:t>Рекоменд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внимательно читать формулировку задания – слова с Н или Н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повторить исклю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проверять наличие / отсутствие зависимых слов у отглагольных прил./ пр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удё(1)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тер с Оки, редкие прохожие идут, путаясь в полах шуб и шерстя(2)ых пальто, а дóма тепло, рассыпается серебря(3)ым колокольчиком канарейка в клетке, на кухне ждёт чайник из костя(4)ого фарфора, изумрудно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ыжове(5)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аренье положе(6)о в хрустальную розетку, и на вяза(7)ой крючком кипенно-белой скатерти сияет золочё(8)ая ложе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Google Shape;300;p43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Google Shape;301;p43"/>
          <p:cNvSpPr/>
          <p:nvPr/>
        </p:nvSpPr>
        <p:spPr>
          <a:xfrm>
            <a:off x="0" y="211284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Google Shape;302;p43"/>
          <p:cNvSpPr/>
          <p:nvPr/>
        </p:nvSpPr>
        <p:spPr>
          <a:xfrm>
            <a:off x="1447920" y="271440"/>
            <a:ext cx="720252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Практика показывает, что ребята часто допускают ошибку в постановке знаков препинания в предложениях, требующих различения однородных и неоднородных определений, выраженных причастным оборотом и одиночным прилагательным (причастием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Снежные сугробы покрылись тонкой, едва видимой коркои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Анна взглянула на Вронского улыбнулась ему веселой, обещающей радость улыбкои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Порыжевшая, выжженная солнцем трава выглядела жалк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Медленно падает на землю оторвавшийся от ветки кленовый лис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Особое внимание предложен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двора раздались громкие встревоженные голоса и сразу же послышался детский пла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собирали в лесу не только грибы, но и бруснику и голуб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Google Shape;316;p45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Google Shape;317;p45"/>
          <p:cNvSpPr/>
          <p:nvPr/>
        </p:nvSpPr>
        <p:spPr>
          <a:xfrm>
            <a:off x="0" y="218448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Google Shape;318;p45"/>
          <p:cNvSpPr/>
          <p:nvPr/>
        </p:nvSpPr>
        <p:spPr>
          <a:xfrm>
            <a:off x="1447920" y="271440"/>
            <a:ext cx="720252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трабатываем с ребя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зличение омонимичных конструкций со словами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может быть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возможно» 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зличение функций слова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однако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дентификацию слов и конструкций как вводных: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по словам Е. Трубецкой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к моему удивлению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следовательно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значит» 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ЗУЧАЕМ СЛОВА, КОТОРЫЕ НЕ ОТНОСЯТСЯ К ВВО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!ЯК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Google Shape;90;p18"/>
          <p:cNvSpPr/>
          <p:nvPr/>
        </p:nvSpPr>
        <p:spPr>
          <a:xfrm>
            <a:off x="25236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Google Shape;91;p18"/>
          <p:cNvSpPr/>
          <p:nvPr/>
        </p:nvSpPr>
        <p:spPr>
          <a:xfrm>
            <a:off x="0" y="2228760"/>
            <a:ext cx="9856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Google Shape;92;p18" descr=""/>
          <p:cNvPicPr/>
          <p:nvPr/>
        </p:nvPicPr>
        <p:blipFill>
          <a:blip r:embed="rId1"/>
          <a:stretch/>
        </p:blipFill>
        <p:spPr>
          <a:xfrm>
            <a:off x="1384200" y="274680"/>
            <a:ext cx="7332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Google Shape;324;p46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Google Shape;325;p46"/>
          <p:cNvSpPr/>
          <p:nvPr/>
        </p:nvSpPr>
        <p:spPr>
          <a:xfrm>
            <a:off x="0" y="215568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Google Shape;326;p46"/>
          <p:cNvSpPr/>
          <p:nvPr/>
        </p:nvSpPr>
        <p:spPr>
          <a:xfrm>
            <a:off x="1163520" y="372960"/>
            <a:ext cx="7470720" cy="55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ложноподчинённые </a:t>
            </a: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предложения с несколькими придаточными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связанными последовательной, параллельной и  однородной связью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ontserrat"/>
              </a:rPr>
              <a:t>Только вдруг почему-то всем представилось, как приходил Бозин домой, как садился за стол, ел суп или пил чай и на него, закутавшись в мягкий пух облака, своими чистыми и добрыми глазами смотрел ангел, словно сыночек, дождавшийся своего от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ontserra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ontserrat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а поняла со всей ясностью (1) что случилось именно то (2) о чём утром говорило предчувствие (3) и (4) что она покидает особняк и прежнюю свою жизнь навсе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Google Shape;332;p47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Google Shape;333;p47"/>
          <p:cNvSpPr/>
          <p:nvPr/>
        </p:nvSpPr>
        <p:spPr>
          <a:xfrm>
            <a:off x="0" y="209556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Google Shape;334;p47"/>
          <p:cNvSpPr/>
          <p:nvPr/>
        </p:nvSpPr>
        <p:spPr>
          <a:xfrm>
            <a:off x="1447920" y="271440"/>
            <a:ext cx="72025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Осложняющим фактором при выполнении задания 20 традиционно является </a:t>
            </a:r>
            <a:r>
              <a:rPr b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стык союзов (союзных средств)</a:t>
            </a: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Ребенок имеет право быть тем (1) кто он есть </a:t>
            </a:r>
            <a:r>
              <a:rPr b="1" i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(2) и (3) если </a:t>
            </a:r>
            <a:r>
              <a:rPr b="0" i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мы хотим быть честными (4) то не надо ждать (5) чтобы он стал совершенным человеком (По Я. Корча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Много работаем с текс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Google Shape;340;p48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Google Shape;341;p48"/>
          <p:cNvSpPr/>
          <p:nvPr/>
        </p:nvSpPr>
        <p:spPr>
          <a:xfrm>
            <a:off x="0" y="185580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Google Shape;342;p48"/>
          <p:cNvSpPr/>
          <p:nvPr/>
        </p:nvSpPr>
        <p:spPr>
          <a:xfrm>
            <a:off x="1447920" y="271440"/>
            <a:ext cx="720252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6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неумение отличить один случай постановки знака препинания от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6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мешение случаев обособления </a:t>
            </a: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приложения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 знаком тире и постановки тире между подлежащим и сказу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6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мешение случаев постановки двоеточия при однородных членах с обобщающим словом и постановки двоеточия в БС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ботаем над грамматической основой предложения, ищем ПО, ДО, О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Google Shape;380;p53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Google Shape;381;p53"/>
          <p:cNvSpPr/>
          <p:nvPr/>
        </p:nvSpPr>
        <p:spPr>
          <a:xfrm>
            <a:off x="0" y="26989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Google Shape;382;p53"/>
          <p:cNvSpPr/>
          <p:nvPr/>
        </p:nvSpPr>
        <p:spPr>
          <a:xfrm>
            <a:off x="1317600" y="169920"/>
            <a:ext cx="720252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лексический повтор + анализ его фу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антитеза + анализ её фу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выбор соответствующих терминов, называющих перенос признаков по смежности (метоним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усиление признака в исходном макротексте (градац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расчленение (дробление) единой фразы на отдельные части (парцелляц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Обращаем</a:t>
            </a: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 внимание на выделение курси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Учим не путать анафору и многосоюз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РАБОТАЕМ СО СПИСКОМ ИВС НА САЙТЕ РЕШУ.ЕГ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Google Shape;372;p52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Google Shape;373;p52"/>
          <p:cNvSpPr/>
          <p:nvPr/>
        </p:nvSpPr>
        <p:spPr>
          <a:xfrm>
            <a:off x="0" y="11095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Google Shape;374;p52"/>
          <p:cNvSpPr/>
          <p:nvPr/>
        </p:nvSpPr>
        <p:spPr>
          <a:xfrm>
            <a:off x="1447920" y="271440"/>
            <a:ext cx="720252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Чаще всего выпускники испытывают трудности при определении фразеологизмов как раз в тех случаях, когда фразеологический оборот является </a:t>
            </a: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привычным для повседневной разговорной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5"/>
          <p:cNvSpPr/>
          <p:nvPr/>
        </p:nvSpPr>
        <p:spPr>
          <a:xfrm>
            <a:off x="1127160" y="2209680"/>
            <a:ext cx="7883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(1)Кружила январская метелица, скрипели мёрзлые тополя в переулке, верховой ветер гремел железом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о и дел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рывал снежную пыль с карнизов, нёс её вдоль побелённых заборов, над свежими сугробами, а оно, это единственное в ночи окно, светилось зелёным уютным пятном и, всегда одинаково яркое, тёплое, занавешенное, притягивало к себе, вызывало приятное ощущение неразгаданной тайны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(25)Нет мудрости в том, что кто-то, завидев прекрасное, бросается к нему, присоединяет к себе и делает своей собственностью: эта собственность неминуемо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ано или поздн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делает его своим рабом. (26)Настоящая мудрость приходит к человеку, когда, завидев прекрасное, он не бросается к нему, а собирает друзей и показывает. (27)Тогда прекрасное само приходит к нему, как к хозяину своему и другу, и свободно садится со всеми за стол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TextBox 3"/>
          <p:cNvSpPr/>
          <p:nvPr/>
        </p:nvSpPr>
        <p:spPr>
          <a:xfrm>
            <a:off x="1278000" y="150984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Google Shape;106;p20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Google Shape;107;p20"/>
          <p:cNvSpPr/>
          <p:nvPr/>
        </p:nvSpPr>
        <p:spPr>
          <a:xfrm>
            <a:off x="0" y="244152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Google Shape;108;p20"/>
          <p:cNvSpPr/>
          <p:nvPr/>
        </p:nvSpPr>
        <p:spPr>
          <a:xfrm>
            <a:off x="1216080" y="222120"/>
            <a:ext cx="7564320" cy="32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Повторяем и отрабатыв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определен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стилевой принадлеж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4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незнание лингвистическо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терминологи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 (отглагольная лексика, абстрактная лексика, канцеляризм, термин, книжная лексика, разговорная лексика, имя существительное в родительном падеже, неполное предложение, односоставное предло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Google Shape;114;p21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Google Shape;115;p21"/>
          <p:cNvSpPr/>
          <p:nvPr/>
        </p:nvSpPr>
        <p:spPr>
          <a:xfrm>
            <a:off x="0" y="20955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Google Shape;116;p21"/>
          <p:cNvSpPr/>
          <p:nvPr/>
        </p:nvSpPr>
        <p:spPr>
          <a:xfrm>
            <a:off x="1154160" y="133200"/>
            <a:ext cx="749628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Системно провожу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орфоэпическую разминку, причем слова должны именно звучать, а не быть просто написанными или напечатан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❗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Систему упражнений также важно строить не на решении однотипных</a:t>
            </a: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 (по типу ЕГЭ) задании,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1)  на готовом материале, например, разучивание слов с готовыми ударениями и распределение их на группы по какому-либо признаку (ударение на первом слоге, на втором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2)  на усложненном материале, например расставить ударения и определить, по какому принципу сгруппированы слова, и распределить слова на группы в зависимости от уда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3)  в нестандартных ситуациях, например составление предложений и текста, включающих слова, которые вызывают трудности в произношении, и составление тестов по теме</a:t>
            </a: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Picture background"/>
          <p:cNvPicPr/>
          <p:nvPr/>
        </p:nvPicPr>
        <p:blipFill>
          <a:blip r:embed="rId1"/>
          <a:stretch/>
        </p:blipFill>
        <p:spPr>
          <a:xfrm>
            <a:off x="1031760" y="0"/>
            <a:ext cx="7313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Google Shape;130;p23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Google Shape;131;p23"/>
          <p:cNvSpPr/>
          <p:nvPr/>
        </p:nvSpPr>
        <p:spPr>
          <a:xfrm>
            <a:off x="0" y="25383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Google Shape;132;p23"/>
          <p:cNvSpPr/>
          <p:nvPr/>
        </p:nvSpPr>
        <p:spPr>
          <a:xfrm>
            <a:off x="1447920" y="271440"/>
            <a:ext cx="72025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ые паронимические па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величина — вели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граничить — отграни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здражительность — разд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тработка ум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ключаем задания, связанные с паронимией, в комплексное повторение морфологии, лексики, орфографии — навык различать оттенки паронимов и грамотно употреблять их в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риентируемся на сборник паронимов  по материалам ФИП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Google Shape;138;p24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Google Shape;139;p24"/>
          <p:cNvSpPr/>
          <p:nvPr/>
        </p:nvSpPr>
        <p:spPr>
          <a:xfrm>
            <a:off x="0" y="22287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Google Shape;140;p24"/>
          <p:cNvSpPr/>
          <p:nvPr/>
        </p:nvSpPr>
        <p:spPr>
          <a:xfrm>
            <a:off x="1447920" y="271440"/>
            <a:ext cx="72025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ый плеоназм (исключить лишнее слово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перспективы буду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«Поделись праздником со всеми! -  таков ведущий лейтмотив фотовыставки «Россия – Родина мо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ая замена слова (лексическая сочетаемость, заменить неверно употреблённое слово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SzPct val="6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«Два месяца назад я приехал в родной город, чтобы осуществить редакционное задание, и внезапно принял решение остаться на родин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Google Shape;149;p25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Google Shape;150;p25"/>
          <p:cNvSpPr/>
          <p:nvPr/>
        </p:nvSpPr>
        <p:spPr>
          <a:xfrm>
            <a:off x="0" y="232560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Google Shape;151;p25"/>
          <p:cNvSpPr/>
          <p:nvPr/>
        </p:nvSpPr>
        <p:spPr>
          <a:xfrm>
            <a:off x="1447920" y="271440"/>
            <a:ext cx="72025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Особое внимание следует уделить верному </a:t>
            </a:r>
            <a:r>
              <a:rPr b="1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оформлению исправленного слова</a:t>
            </a: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 в бланке ответов: запись слова с учётом всех норм современного русского языка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в том числе и орфографическ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Picture background"/>
          <p:cNvPicPr/>
          <p:nvPr/>
        </p:nvPicPr>
        <p:blipFill>
          <a:blip r:embed="rId1"/>
          <a:stretch/>
        </p:blipFill>
        <p:spPr>
          <a:xfrm>
            <a:off x="1492200" y="1069920"/>
            <a:ext cx="569916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Google Shape;180;p28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Google Shape;181;p28"/>
          <p:cNvSpPr/>
          <p:nvPr/>
        </p:nvSpPr>
        <p:spPr>
          <a:xfrm>
            <a:off x="0" y="27255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Google Shape;182;p28"/>
          <p:cNvSpPr/>
          <p:nvPr/>
        </p:nvSpPr>
        <p:spPr>
          <a:xfrm>
            <a:off x="1198440" y="195120"/>
            <a:ext cx="7785360" cy="29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ости с идентификацией вида грамматической ошиб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Отработка уме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труктурируем предложения, выделяя главные чл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графически выделяем оборот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учим видеть </a:t>
            </a: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лова-маркёры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 (несогласованное приложение, обороты, однородные члены) и выделять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медленное смысловое чтение каждого предложения в правой колонке таблицы и каждого тезиса в л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УМЦ</cp:lastModifiedBy>
  <dcterms:modified xsi:type="dcterms:W3CDTF">2025-04-09T06:30:53Z</dcterms:modified>
  <cp:revision>4</cp:revision>
  <dc:subject/>
  <dc:title>Слайд 1</dc:title>
</cp:coreProperties>
</file>